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B27-5803-4227-AAB0-DA477641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CE3-6457-48F1-9E75-8E2E4F6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6FA-EC93-4A54-8645-0A7148C0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055-F1CE-4AC2-BC11-274DFD93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8C9-16D9-40E5-B660-9DD299C3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C5A-BB73-4071-8596-D3A06AEA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3631-3040-4A76-A776-37B3B9C0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192-3264-46D2-9D5E-5EA7F699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0EDE-F790-431A-B21A-AFFFA63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113-BDA9-429C-A294-E7C6C07C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2A7-5DC5-43EF-AAF4-5B663B8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558-4E00-49AE-8759-4847568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D7B8-18A4-4A51-9317-3C64436D6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088200">
            <a:off x="468000" y="907920"/>
            <a:ext cx="86756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Kristen ITC"/>
              </a:rPr>
              <a:t>Perrin Kathryn Louise O'Sullivan  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Kristen ITC"/>
              <a:ea typeface="Kristen ITC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450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is is a PowerPoint about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692360" y="333360"/>
            <a:ext cx="590400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bout Me</a:t>
            </a:r>
            <a:endParaRPr b="0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54720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Favour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vourite colour: Lime G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food: Chocolate and lollies and grap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Book: Diz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Movie: Stick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port: Soccer and Gymn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day of the week: Fri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teacher: Mrs Hunter and Mrs Eva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subject: science and 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vourite number: 5 or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54560" y="3068640"/>
            <a:ext cx="3889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MY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g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Birthday: 4/12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Height: 139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Holidays I have been on: I went to Long island in the Whitsunday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403280" y="476280"/>
            <a:ext cx="62928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y Famil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924280"/>
            <a:ext cx="7704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y family there are 6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dad who works at a pai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mum who works as a kinder gym coach and a swimming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 brothers: I have 3 brothers Zed (or as Ellen calls him M) who is 12; Talon who is 8; and Eli who is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47640" y="0"/>
            <a:ext cx="6121440" cy="6697800"/>
          </a:xfrm>
          <a:custGeom>
            <a:avLst/>
            <a:gdLst>
              <a:gd name="textAreaLeft" fmla="*/ 1438560 w 6121440"/>
              <a:gd name="textAreaRight" fmla="*/ 4678560 w 6121440"/>
              <a:gd name="textAreaTop" fmla="*/ 787320 h 6697800"/>
              <a:gd name="textAreaBottom" fmla="*/ 4201200 h 6697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9858800">
            <a:off x="2711880" y="1265040"/>
            <a:ext cx="201600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oph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ay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Bo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Bro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ar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Saoi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oni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423800">
            <a:off x="5283000" y="1555200"/>
            <a:ext cx="2305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Hannah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Hannah.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i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Khlo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Pa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Ma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Te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21820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488360" y="521820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88360" y="0"/>
            <a:ext cx="1655640" cy="1639800"/>
          </a:xfrm>
          <a:custGeom>
            <a:avLst/>
            <a:gdLst>
              <a:gd name="textAreaLeft" fmla="*/ 389160 w 1655640"/>
              <a:gd name="textAreaRight" fmla="*/ 1265400 w 1655640"/>
              <a:gd name="textAreaTop" fmla="*/ 192600 h 1639800"/>
              <a:gd name="textAreaBottom" fmla="*/ 1028520 h 1639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89000"/>
            <a:ext cx="410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y Friend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5373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ry to any one who is not on this pag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4360" y="3213000"/>
            <a:ext cx="4319640" cy="316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333360"/>
            <a:ext cx="6489720" cy="23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ACHERS I HAVE HA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URING MY SCHOOL YEA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3284640"/>
            <a:ext cx="4824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rep: Mrs Sutclif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one : Mrs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two : Mrs Tru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three : Mrs Hunter and Mrs Phil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four : Miss McKel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five : Miss But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Grade six : Mr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50920" y="260280"/>
            <a:ext cx="8137440" cy="3816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ARTING GRAD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X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564000" y="4035600"/>
            <a:ext cx="15876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3:25:18Z</dcterms:created>
  <dc:creator>Admin</dc:creator>
  <dc:description/>
  <dc:language>en-US</dc:language>
  <cp:lastModifiedBy>Admin</cp:lastModifiedBy>
  <dcterms:modified xsi:type="dcterms:W3CDTF">2009-03-04T04:08:01Z</dcterms:modified>
  <cp:revision>7</cp:revision>
  <dc:subject/>
  <dc:title>Slide 1</dc:title>
</cp:coreProperties>
</file>